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15E0-AE13-4529-9911-CD4C77527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303F-DF8C-4B04-B93D-5A491F4D56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2C9E-8C45-4CD1-AE65-FF137AE977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A85D-3A14-4847-9978-08808879D9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97B0-FFD2-4006-A6EC-1BF28B4947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E388-F3AD-4B66-BC5C-BCC0A449FF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3F2A-2DA5-4EFC-9CA6-99FB01B508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6FAB-4F3F-4492-A8BF-9495AFD386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7572-BED0-4A52-A531-A0ADB3BD05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A197-F237-4A41-AB9C-B0CCF34F71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061F-99BE-4C2F-B6AF-BF98697674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301D-947C-424B-BC22-64FF5DF3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EB8A-88D9-4CFD-9AE6-4BAF5B92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CF7-D7E7-4F11-8AB3-EFAE4184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64A-8ABC-4659-A3DB-9295D5CA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90A-FA1B-4D3F-B8D1-BEC097B7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C8F-A393-4F31-9A0E-62BA9841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0BB0-3A27-4763-B13C-D857EF7E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E3D-528A-478B-9718-C5854654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36C-E411-426C-B595-48011582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884-F41A-4051-8FC7-1E69E0D7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ABB-E7ED-4397-9E6C-6F360F06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3EA-1A17-4870-A68E-01D033C0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0C21-B530-4CD0-8A5A-1680F5093A6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0952-1135-489E-ACE9-7840977406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3680" y="509760"/>
            <a:ext cx="8756640" cy="29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E 4-H STUDY OF </a:t>
            </a:r>
            <a:br>
              <a:rPr sz="4400"/>
            </a:b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POSITIVE YOUTH DEVELOPMENT: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5560" y="3962160"/>
            <a:ext cx="82184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chard M. Lerner, Jacqueline V. Lerner, Erin Phelps, and Colleag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itute for Applied Research in Youth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ufts University, Medford, 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C48F-8345-4CFF-BFDB-C9CAA7C72F4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6968-676E-4A88-B3C1-0715C8E9F4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7760" y="6631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Design of the 4-H Stud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9600" y="1547640"/>
            <a:ext cx="834552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are longitudinally studying these new students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inimum of three times of measurement are needed to judge developmental change.  We are reporting for the first time the results from three times of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all, we have sampled more than 6,000 youth from 37 states and more than 2,000 paren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6212-64E3-431B-87DA-70332F69512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375A-92BD-435E-B120-21C6EEBBA6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7760" y="4716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Design of the 4-H Stud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9600" y="1278000"/>
            <a:ext cx="83455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comparative purposes, our sample includes 4-H youth and non-4-H youth.  These groups of youth differ in sever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judge the differences between 4-H youth and other youth we need to create a matched sub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ever, this limits our ability to apply the findings to all 4-H y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7B49-30BB-4747-BA84-57FE5E64D71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0118-3C78-42A5-BDCB-DA41140331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1880" y="54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Key Principles of the PYD Perspective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6200" y="1707840"/>
            <a:ext cx="802944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of the potential to change, all youth have streng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contexts have strengths as well.  These strengths are resources that may be used to promote positive youth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resources are termed “developmental assets”:  They are the “social nutrients” needed for healthy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1E22-91B3-4971-A3FC-5BC0F002321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5131-C777-4A18-8C76-D6019FDAB2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1880" y="54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Key Principles of the PYD Perspective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6200" y="1781280"/>
            <a:ext cx="802944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s of youth are combined with ecological developmental assets. Then, these assets are found in families, schools, faith institutions, youth serving organizations, and the community more gener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 positive, healthy development may occ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may be optimistic that it is in our power to promote positive development among all you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08E8-4948-4D96-8D32-72098088622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903D-A561-4D40-9D6E-5EDE8F3C07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ree Key Hypotheses of the 4-H Stud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pothesis 1.  PYD is constituted by “Five Cs: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5960" y="2468520"/>
            <a:ext cx="2955960" cy="326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Five 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 rot="16200000">
            <a:off x="4052880" y="3333240"/>
            <a:ext cx="960120" cy="690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378400" y="3313080"/>
            <a:ext cx="2421000" cy="520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3B5F-8437-41CC-8782-188204A2D88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5959-6FDB-4311-A835-4DBCDCB097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3320" y="549000"/>
            <a:ext cx="848844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e Five Cs are Related to the </a:t>
            </a:r>
            <a:br>
              <a:rPr sz="4400"/>
            </a:b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“Four Essential Elements”</a:t>
            </a:r>
            <a:r>
              <a:rPr b="1" lang="en-US" sz="4400" spc="-1" strike="noStrike" baseline="30000">
                <a:solidFill>
                  <a:srgbClr val="00ffff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0040" y="1904760"/>
            <a:ext cx="7805520" cy="45939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228600" bIns="13716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Cs of PY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4 Essential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d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N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 &amp;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O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*As presented by Dr. Cathann Kres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81BB-E688-4D10-A735-750A10C3542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CFD2-156E-4814-8F69-E2BEDE5B38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ree Key Hypotheses of the 4-H Study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85960" y="1393560"/>
            <a:ext cx="748800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pothesis 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ross adolescence, positive youth development occurs (that is, youth “thrive”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trengths of young people are aligned with the resources for healthy development (“developmental assets”) present in their commun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8486-8193-43BF-8259-69B5BFE3632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8064-EFF9-4614-BB74-3B2EE7CD2E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ree Key Hypotheses of the 4-H Stud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2640" y="1600200"/>
            <a:ext cx="7386840" cy="14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pothesis 3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th Development (YD) programs constitute key developmental assets promoting PY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09480" y="3429000"/>
            <a:ext cx="7848720" cy="27255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D programs are marked by the presence of the “Big 3,” tha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fa3c"/>
                </a:solidFill>
                <a:latin typeface="Arial"/>
              </a:rPr>
              <a:t>Sustained, positive adult-youth relation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fa3c"/>
                </a:solidFill>
                <a:latin typeface="Arial"/>
              </a:rPr>
              <a:t>Skill building activitie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fa3c"/>
                </a:solidFill>
                <a:latin typeface="Arial"/>
              </a:rPr>
              <a:t>and Youth participation and leader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9E5B-8D6B-45E0-9F4A-4C64F80705B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9020-BCA8-47A6-AF9F-FF9CFE937D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tems for discussion: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e and participant recrui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and support from Tuf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al support for participating coun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place where faculty and staff can access materials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CBE5-546D-4EDE-9743-1178EAB7B58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08E5-0B2F-4B89-9FE5-ED67A1D3CC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ite and Participant Recruitment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age – 9-12th graders, focus on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-H and non-4-H y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ner who will work with you to secure parent consent and administer the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 consent 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-line option is pre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Tufts find them in a ye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IDEAS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5637-787F-41DA-9005-146B67A88A9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9AFA-8D52-4CC8-8B8D-EF0554CC29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ufts Suppor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 sessions for data collectors – &lt;dat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kit of materials including: sample IRB forms, correspondence, news releases and other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e and e-mail for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s of producing the data collection materials can be reimbur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D7DA-DEC7-4CC8-9C79-026116B38B5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C2D7-557B-44E7-B598-85BA399AB4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ey $$$$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$ incentive from your stat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location of form to fill out to receive money from stat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-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k-you gift from Tuf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for face-to-face data col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0 gift credit with Amazo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year sites will be paid $50 by Tuf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for 2nd year or bey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for face-to-face set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ny number of surveys sub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1EA5-5F5D-4020-88A4-24B7B958F81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1FC4-589A-4AE9-96AE-4C6FFC2FD0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ata Collection Expens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available for face-to-face data colle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track of copies produced and request reimbursement for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Student Questionnaires &lt;40&gt; pages @$.05 per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Parent Consent Forms – 4 pages @ $.05 per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Youth Assent Forms – 1 page @$.05 per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Parent letters – 2 pages $.05 per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Additional printing – itemize @ $.05 per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ostage expenses will be reimbursed by Tuf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ther expenses will be reimbursed without prior approval from Tuf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8EAD-C81A-4CAD-B154-81B5C503ED4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70DA-CE8E-4462-8891-39B94F5419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ediately – site recruitment, eI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s are ready: &lt;location where templates can be found&gt;, or on the National 4-H Brand Network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&lt;established date&gt; – letter of permission, set dates for administration, request needed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&lt;established date&gt; – complete administration and submit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 2010 – &lt;state&gt;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1EB3-EE24-4F3D-BEB9-295FB657396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AFA0-538E-4A81-8E86-FED15E0B78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port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set up statewide program with &lt;coordinator&gt; as Team Leader and data collectors as Team Member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cheduling function to show planned sites/dat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A413-E9B8-43CC-BDFA-C45609333B7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2A3A-9904-46D0-B18E-7BAC337B8B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7760" y="54936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Design of the 4-H Stud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9600" y="154764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is a longitudinal study:  Youth are followed across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ginning in 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rade, we are following some youth through 1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rade (and we hope past high scho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adjust for youth who drop out of the study and to maintain our ability to conduct powerful statistical analyses, we have added new students each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11:43Z</dcterms:created>
  <dc:creator>Temp</dc:creator>
  <dc:description/>
  <dc:language>en-US</dc:language>
  <cp:lastModifiedBy>bnsgy9</cp:lastModifiedBy>
  <dcterms:modified xsi:type="dcterms:W3CDTF">2009-09-21T16:30:59Z</dcterms:modified>
  <cp:revision>77</cp:revision>
  <dc:subject/>
  <dc:title>THE 4-H STUDY OF  POSITIVE YOUTH DEVELOPMENT: </dc:title>
</cp:coreProperties>
</file>